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09FA-F3CB-48F0-B356-34213277AF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n 1998 el Perú y Chile suscribieron el Acuerdo de Complementación Económica N° 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1995 e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 Perú y México firmaron el Acuerdo de Complementación Económica N°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Perú se adhirió al ATPA (Ley de Preferencias Arancelarias Andinas) en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lo abrió las puertas de EE.UU. a alrededor de 5,500 productos, que no incluían a los textiles y las confec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chas preferencias vencieron en diciembre del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ATPDEA (Ley de Promoción Comercial Andina y Erradicación de la Droga) las renov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Se firmó en agosto del 2002 y entró en vigencia en octubre de ese mismo añ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xtiende las preferencias a las confecciones, entre otros produ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656-F56A-4EDF-A8A7-3D506930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E18-2334-43F0-883B-1755432D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A2F9-06A3-4C67-B417-691CF28D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86B-D76F-42C7-B989-D56C13E9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CDFD-54B4-4688-B168-7A21E9F0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1D10-DD66-43AB-A941-BFABB679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8400-D983-481A-B401-30455116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33FA-D000-427B-9B39-175E4992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C577-7614-4880-912C-119497AA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7A55-42FF-44AA-912C-79514C50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7180-4446-413F-9BA8-FC8F96E8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89B-4D80-4F32-AAE3-F6987A4F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BA10-38CD-401B-BC85-60D79586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85CE-CFF0-4B83-8915-5DD02F4C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DA14-AC16-4ABA-9FCD-39B217F5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4E51-3128-4843-8CDD-42DADCE2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0833-8A60-4407-8EEF-D1F06DB3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84C2-9D26-418F-A7C4-A3AEAD72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5C47-4742-44FF-B8BC-F2BB5862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71A-A602-47EF-B1A1-04800058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2F0C-2A2C-488B-9BDE-6892DCD4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70B-6DFF-4560-9571-21B82B52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61D-9BE7-4368-A957-86964314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99D-D42E-416E-936B-139C2FE3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4765-5902-4410-8DEE-F50028B72C6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65DF-C839-4E70-9311-763EFF2EE28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4957" r="0" b="0"/>
          <a:stretch/>
        </p:blipFill>
        <p:spPr>
          <a:xfrm>
            <a:off x="609480" y="1798560"/>
            <a:ext cx="76345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4390" r="0" b="0"/>
          <a:stretch/>
        </p:blipFill>
        <p:spPr>
          <a:xfrm>
            <a:off x="380880" y="1660680"/>
            <a:ext cx="7936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5150" r="0" b="0"/>
          <a:stretch/>
        </p:blipFill>
        <p:spPr>
          <a:xfrm>
            <a:off x="685800" y="1844640"/>
            <a:ext cx="76089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4037" r="0" b="0"/>
          <a:stretch/>
        </p:blipFill>
        <p:spPr>
          <a:xfrm>
            <a:off x="533520" y="1668600"/>
            <a:ext cx="80071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224000"/>
            <a:ext cx="78469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Desarrollo de merc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merc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ni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33370" b="11189"/>
          <a:stretch/>
        </p:blipFill>
        <p:spPr>
          <a:xfrm>
            <a:off x="61128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18888" t="8382" r="35419" b="28609"/>
          <a:stretch/>
        </p:blipFill>
        <p:spPr>
          <a:xfrm>
            <a:off x="4788000" y="2421000"/>
            <a:ext cx="2089080" cy="216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12804" t="10676" r="26419" b="8232"/>
          <a:stretch/>
        </p:blipFill>
        <p:spPr>
          <a:xfrm>
            <a:off x="2268360" y="2924280"/>
            <a:ext cx="201456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0" r="28971" b="5296"/>
          <a:stretch/>
        </p:blipFill>
        <p:spPr>
          <a:xfrm>
            <a:off x="1187280" y="407664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516720" y="2997360"/>
            <a:ext cx="2087640" cy="20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rcRect l="0" t="6711" r="0" b="0"/>
          <a:stretch/>
        </p:blipFill>
        <p:spPr>
          <a:xfrm>
            <a:off x="5796000" y="4076640"/>
            <a:ext cx="2089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981000"/>
            <a:ext cx="58672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5169" r="0" b="0"/>
          <a:stretch/>
        </p:blipFill>
        <p:spPr>
          <a:xfrm>
            <a:off x="304920" y="1576440"/>
            <a:ext cx="7772400" cy="5067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360360"/>
            <a:ext cx="79311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335240"/>
            <a:ext cx="70866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5640" y="582480"/>
            <a:ext cx="8677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1641600"/>
            <a:ext cx="7010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1068480"/>
            <a:ext cx="64008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79250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Poca cama, poco plato, </a:t>
            </a:r>
            <a:br>
              <a:rPr sz="3500"/>
            </a:b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mucho zapato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26:53Z</dcterms:created>
  <dc:creator>jore</dc:creator>
  <dc:description/>
  <dc:language>en-US</dc:language>
  <cp:lastModifiedBy>jore</cp:lastModifiedBy>
  <dcterms:modified xsi:type="dcterms:W3CDTF">2005-04-29T20:17:19Z</dcterms:modified>
  <cp:revision>24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961498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pts</vt:lpwstr>
  </property>
  <property fmtid="{D5CDD505-2E9C-101B-9397-08002B2CF9AE}" pid="6" name="_PreviousAdHocReviewCycleID">
    <vt:r8>-434339299</vt:r8>
  </property>
</Properties>
</file>